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eatin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493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reatin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7:03:18Z</dcterms:modified>
  <cp:revision>327</cp:revision>
  <dc:subject/>
  <dc:title>Vorstellung einer Neuheit</dc:title>
</cp:coreProperties>
</file>